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3CD-20D1-4FE7-98E5-F22EC87A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BA4-70B0-482F-82DA-C5DE0030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ED1-2308-4B29-9EA7-D74997A3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553-8D74-4B6C-AAA4-47F7F884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AC43-8B76-4634-9AF8-7E7FF68A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9DA5-A68E-46BB-99A7-0C15AD18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AD10-E4AF-4C8A-A1E0-697E86C3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C60B-2714-42FA-B825-3A7C3AD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C9E2-3EDC-4859-83BD-07D4D548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1B2D-7D80-4229-90C8-2F2EFBC2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8F2-C4E2-464E-89D8-89DF3321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F10-DD4E-4A27-A4D5-5DDD5EF0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AE12-E869-447B-8D66-7630B010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936E-E108-4C28-8EF8-109E8B33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95FF-DC31-442F-9FB2-2EF5B19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173C-B3FE-4FA3-AD3F-3C1C2EEF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C434-EA17-4F06-91C8-718291C6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5FE-8E9A-43A0-9197-7E2FA02E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FB7-D181-4CB8-B8FD-3863EFD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770-481B-48EE-AF72-1AA3D73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2B9-4A57-465D-BF5E-ECFE6C41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888-D051-4152-AC8E-A495615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B79-1ED0-4E2F-9E8E-4AF5D9F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A10-2C4D-4F43-AA54-EE1B3E6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003-FAE5-4BD5-8278-E67C6C08DEE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B510-86EE-4C18-85ED-59F4809A24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610480" y="8229600"/>
            <a:ext cx="10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772040" y="7924320"/>
            <a:ext cx="1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Por: Filip Cooper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4572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7621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10666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7d47d"/>
                </a:solidFill>
                <a:latin typeface="Arial"/>
              </a:rPr>
              <a:t>Viaje a Per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5105520"/>
            <a:ext cx="36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Por: Filip Coope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971440" y="2743200"/>
            <a:ext cx="44146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380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5994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legué a Lima, Perú ho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99600" y="9144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f1311"/>
                </a:solidFill>
                <a:latin typeface="Arial"/>
              </a:rPr>
              <a:t>el primer dí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18280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justo cuando llegué me fui al hote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2056680"/>
            <a:ext cx="54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Me estoy alojando en el Hotel Miraflores Park - Lim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82840" y="2285280"/>
            <a:ext cx="56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después de que viajó por todo el día que fui a la cam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79600" y="1370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Hola Eth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125160" y="30420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16059"/>
                </a:solidFill>
                <a:latin typeface="Arial"/>
              </a:rPr>
              <a:t>de dos día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99000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hola luma Hoy he ido a la playa y practicar sur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después de la práctica del surf nos fuimos al hotel para descansar un poco para estar listo para clubing toda la no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6400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19880" y="22824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f1311"/>
                </a:solidFill>
                <a:latin typeface="Arial"/>
              </a:rPr>
              <a:t>Día dos noche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8040"/>
            <a:ext cx="56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16059"/>
                </a:solidFill>
                <a:latin typeface="Arial"/>
              </a:rPr>
              <a:t>cuando entramos en el club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4472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cuando fuimos al club hemos recogido algunas chic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55120" y="175176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después de recoger a las niñas que la pista de bai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56200" y="2056680"/>
            <a:ext cx="68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después de haber estado bailando el club parecía muy de guerra</a:t>
            </a: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8:27Z</dcterms:created>
  <dc:creator>cooperfil</dc:creator>
  <dc:description/>
  <dc:language>en-US</dc:language>
  <cp:lastModifiedBy>cooperfil</cp:lastModifiedBy>
  <dcterms:modified xsi:type="dcterms:W3CDTF">2011-12-01T18:44:03Z</dcterms:modified>
  <cp:revision>7</cp:revision>
  <dc:subject/>
  <dc:title>Viaje a la República Dominicana</dc:title>
</cp:coreProperties>
</file>